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542-8A99-4264-8CD0-12B6717FF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28C7-F927-4ACA-8C74-57D38AEBE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784-3582-4D1D-B366-FF6255C3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1C3-698C-42FD-AB04-0401C40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80E-8D37-4196-B736-96A3FFE2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618-7049-43DC-B1C4-0F43673C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68D5-A6DF-4767-B61F-7941012D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637-4DF5-4CA1-B378-925F50E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C99-2B13-479D-AFE4-2EBDC34E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D989-4257-499E-AEFC-D7DEF96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CC1-4BCB-4739-A8D8-12A8ACB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FFB-099C-48A4-8AEE-2C45A13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57F-79CD-4D63-AA05-613CF9D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8C3-6D2E-478B-A6DB-92DB0AC8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51ED-C409-4108-AB50-BD61E1C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42CF-D5A3-497C-960D-820FA9DC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A7FC-8401-4DA1-B266-01D475C8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067C-0A4E-41DB-BE4A-D34B4A5D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A74F-5849-4DBE-B062-379C3A52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26B1-1C35-4CA3-9DF2-3DA4FFA6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FA20-928C-45CE-BED5-9C233E7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0DBF-EB41-4412-8159-71B3F655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829B-36AB-4917-863C-F811E7F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6379-55B4-488B-B232-150D7F3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64F-C188-4640-8D78-6B4C010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7B65-DC96-46C5-AC83-FE5B6EBF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6958-6292-4A41-A490-9E93015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1E29-0584-4855-8890-84AFAE19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EF9C-2853-4AAF-8FBA-C567334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2328-9C97-4755-AAFA-D07ECB6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434E-E6AC-4295-9377-09C4DA0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C5C3-99FC-4EA2-84B4-9A67CE89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9007-C382-4997-8A76-CC50556F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14A3-F5BB-44CE-A18E-FC9788C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DD40-EA24-4B36-9BE1-E6BA2034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682-2A22-4A81-ACEF-29E970C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97ED-C9A2-4E21-B33B-C45C10F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D953-2FEF-4E37-B4D4-B6DBC39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1E9A-52D0-49FA-9B76-88DA7660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4F00-52C6-4CDC-BC8C-107C38B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7CBB-AF82-4F06-B554-5E83298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2B09-1BC5-4D20-BD8F-99012CA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AA80-8D26-4581-BDA9-7D7B9AA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FB1C-E819-4798-B3AF-7EEB1C7F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0C1B-CD90-4F6B-B1D7-7ED52B55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030-8D23-4EED-8356-8A2655E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7EA-71AF-46BC-A9DA-6A40F04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884-8CF0-43F6-8310-5C6362E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531-4387-42A2-8557-8499DEC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C85-5C3C-47A0-950A-99EE22B5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8B2E-3042-4D24-8161-DA936A1771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C03-35B8-409D-B02E-AF794E7BE3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4CD3-0FFE-47A2-9B7C-D3C57F1356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84F-B070-4E6D-AA5E-1E4F1CFAC9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ussian Econom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kerdilaid Ho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ntral School, December 20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C:\Users\cool\AppData\Local\Microsoft\Windows\Temporary Internet Files\Content.IE5\2IUTAM3Y\MP900289272[1].jpg"/>
          <p:cNvPicPr/>
          <p:nvPr/>
        </p:nvPicPr>
        <p:blipFill>
          <a:blip r:embed="rId2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MS900074858[1].wav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cool\AppData\Local\Microsoft\Windows\Temporary Internet Files\Content.IE5\2IUTAM3Y\MP900390146[1].jpg"/>
          <p:cNvPicPr/>
          <p:nvPr/>
        </p:nvPicPr>
        <p:blipFill>
          <a:blip r:embed="rId3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7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04V09QGG\MC900101208[1].wmf"/>
          <p:cNvPicPr/>
          <p:nvPr/>
        </p:nvPicPr>
        <p:blipFill>
          <a:blip r:embed="rId2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Question??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 </cp:lastModifiedBy>
  <dcterms:modified xsi:type="dcterms:W3CDTF">2010-12-20T19:26:53Z</dcterms:modified>
  <cp:revision>19</cp:revision>
  <dc:subject/>
  <dc:title>Economy</dc:title>
</cp:coreProperties>
</file>